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4DE-944C-4468-A86A-2A86DD64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72F-CD92-4C70-99B5-66CF7DA3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42B-4530-44C2-AA5E-E2CD0352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AEC-6EDC-4B35-B4BB-FDA2C990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202F-600F-41A2-A976-F026C9DE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A722-62A6-4243-B57E-303CA17C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BC4A-96D5-4AE3-9896-9FCBE95B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16D6-6F57-4784-8188-F69F282E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595D-5BD3-4342-B361-68924577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471B-882E-4E91-8D58-517B5430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FDE1-2397-48D6-A973-5ED51940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41F-A7FF-495E-96A3-4FF516AC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0465-A185-49C4-ABA9-36771216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2D97-D994-46BF-9505-57E713FB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F19B-3C3A-4DFC-B498-5B13A484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BC1B-B196-43EC-8022-5D26B83A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461D-F4F0-4A32-8A25-1EEA98DB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B2B-488E-4E76-8B8B-5732CD40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9D0-3A23-411C-81D1-26E792A1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4E4-5399-440C-AC63-1CF2E64A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533-4CBB-4D28-BED1-544C9AEF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8B7-2554-4B63-A6AD-4290C646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193-97B3-4F73-B326-14968DBD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693-C0E3-4E88-8DFF-CD72F477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83C5-8087-4309-BD90-311EEAB6DD8F}" type="slidenum">
              <a:rPr b="0" lang="pt-BR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51A2-DECA-4A2B-A47D-467908A7094F}" type="slidenum">
              <a:rPr b="0" lang="pt-BR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129440" cy="5040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266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ÇÕES PREVISTAS EXECUTADAS </a:t>
            </a:r>
            <a:br>
              <a:rPr sz="4000"/>
            </a:b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A EXECUTAR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89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2565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Inscrições e elaboração do projeto PowerPoint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Offices: PowerPoi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Inscrições e elaboração do projeto LINUX EDUCACIONAL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6/03 a 17/0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8/03 a 20/0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8/03 a 20/0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BRI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rso LINUX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dos vídeos: Curso Linux e PNUD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trodução à Sala de aula virtual – aula inaugural do curso de 100 hora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0/03 a 03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3/04 a 17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3/04 a 17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scrições e elaboração do projeto ATAC I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rso ATAC I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da Ficha de Freqüência e Desempenho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laboração do Vídeo: ATAC I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04/05 a 08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1/05 a 15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8/05 a 29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8/05 a 29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UNH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Projeto - Workshop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do resultado do proje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9/04  a 29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5/05 a 08/07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GUNS PONTOS PARA REFLETI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tinuar atentas às datas previstas para término das atividades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ABÉNS PELO COMPROMISSO ASSUMIDO JUNTO À ESCOLA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UGIRO PARA O 2º SEMESTRE ATENÇÃO ESPECIAL AOS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PROFESSORES AUSENTES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DA STE NO 1º SEMEST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OBJETIV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7885080" cy="5761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619280" y="414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360" y="530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S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2000" y="3645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COTEC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1989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ROFESSOR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11280" y="342900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UNOS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6400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UEM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COMO AVANÇAR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3593880" cy="3403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3238560" cy="2095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3240000" cy="2162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4572000" y="115920"/>
            <a:ext cx="354348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PELO NTE - STE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1º SEMESTRE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1º SEMESTRE</a:t>
            </a:r>
            <a:br>
              <a:rPr sz="48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6000" y="1653840"/>
            <a:ext cx="35528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037600" y="937800"/>
            <a:ext cx="5212080" cy="5211720"/>
            <a:chOff x="2037600" y="937800"/>
            <a:chExt cx="5212080" cy="5211720"/>
          </a:xfrm>
        </p:grpSpPr>
        <p:sp>
          <p:nvSpPr>
            <p:cNvPr id="200" name="_s77830"/>
            <p:cNvSpPr/>
            <p:nvPr/>
          </p:nvSpPr>
          <p:spPr>
            <a:xfrm>
              <a:off x="2736000" y="1636560"/>
              <a:ext cx="3815640" cy="38145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79af7d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_s77831"/>
            <p:cNvSpPr/>
            <p:nvPr/>
          </p:nvSpPr>
          <p:spPr>
            <a:xfrm rot="7200000">
              <a:off x="2736000" y="163548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_s77832"/>
            <p:cNvSpPr/>
            <p:nvPr/>
          </p:nvSpPr>
          <p:spPr>
            <a:xfrm rot="14400000">
              <a:off x="2736360" y="163584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_s77833"/>
            <p:cNvSpPr/>
            <p:nvPr/>
          </p:nvSpPr>
          <p:spPr>
            <a:xfrm>
              <a:off x="543852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TEC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_s77834"/>
            <p:cNvSpPr/>
            <p:nvPr/>
          </p:nvSpPr>
          <p:spPr>
            <a:xfrm>
              <a:off x="4062240" y="4550760"/>
              <a:ext cx="116352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E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_s77835"/>
            <p:cNvSpPr/>
            <p:nvPr/>
          </p:nvSpPr>
          <p:spPr>
            <a:xfrm>
              <a:off x="268560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2700360" y="638172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FEVEREIRO  - MARÇ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Reunião com os professores das STE e professores multiplicadores do N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Visita às escolas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Orientação aos PS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març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març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dezemb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3879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Acompanhamento das atividades desenvolvidas pelos PS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Curso informática básica – Linux ou Windows (S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Projeto Brasil Ponto a Ponto (S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a dezembr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– abril – mai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 concluíd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– abri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 concluíd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jetos para I Encontro PSTE (S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bril – outubr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io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 concluído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1311"/>
                </a:solidFill>
                <a:latin typeface="Arial"/>
              </a:rPr>
              <a:t>ATAC II – Ambientes Tecnológicos de Aprendizagem Colaborativa e Proinfo integrado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1311"/>
                </a:solidFill>
                <a:latin typeface="Arial"/>
              </a:rPr>
              <a:t>Acompanhamento das atividades programadas nos projetos de ensino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un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io – junho – jul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Arial"/>
              </a:rPr>
              <a:t>PELA STE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RÇ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Elaboração e apresentação do Plano de Ação/2009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Redação para sugestão no Programa das Nações Unidas para o Desenvolvimento – Brasil Ponto a Ponto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Publicação Brasil Ponto a Ponto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Elaboração de projetos e planos de aula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3/03 a 06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concluíd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9/03 a 13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16/03 a 26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9/03 a 13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 ?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SEDMS</cp:lastModifiedBy>
  <dcterms:modified xsi:type="dcterms:W3CDTF">2009-07-07T11:52:39Z</dcterms:modified>
  <cp:revision>49</cp:revision>
  <dc:subject/>
  <dc:title>TECNOLOGIAS NA ESCOLA</dc:title>
</cp:coreProperties>
</file>